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9C2-F863-4D31-91B4-97986557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D6D-6C46-484D-B394-4D57B55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5C4-D6AE-4888-A049-06F9E22D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B1B-CC95-4FC5-BBDA-733457F1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8BBBC-3B06-41DC-AB37-687B6882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CEC91-0769-4A87-8402-0C9894D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B2CC9-4914-4116-A4DD-AB8AE9B3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44F3B-4B27-445A-8485-E11C492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97C4C-9089-43F8-B020-5A93C38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F0F92-2173-4309-9923-A00A2DFD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CEF56-5A43-4934-831D-E7A4913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EEC-A30E-4189-95BE-75A6404E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0604-8E11-4759-8CF2-249FC32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DEED1-BCFC-4409-92CF-7BB1385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F991-C618-4100-8FFD-B8CC1955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10D37-4D1B-4575-9CCB-FEEA3526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B37A3-5BEA-4A0A-A70C-57D69C1A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296-315E-43EE-9D2B-7D11415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B5A-C135-40ED-89B5-F892EF99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EAA-33AD-4CC0-BFE7-D23C3DF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CAC-E7D2-4CC7-B381-1C647AC3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5E8-15C8-41E3-BCA6-FF300D4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A07-D178-4A01-9ED6-E56A520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8DD-CDD3-405C-BDDB-4346142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E21-0B80-4946-B968-766AF307DC3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AC4-8229-4F33-9A32-B9C75F0B4A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Life education by </a:t>
            </a:r>
            <a:br>
              <a:rPr sz="5400"/>
            </a:b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Ben and Do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DSC05821 (Small)"/>
          <p:cNvPicPr/>
          <p:nvPr/>
        </p:nvPicPr>
        <p:blipFill>
          <a:blip r:embed="rId1"/>
          <a:stretch/>
        </p:blipFill>
        <p:spPr>
          <a:xfrm>
            <a:off x="1908000" y="2708280"/>
            <a:ext cx="48247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eople who did life edu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The people who did life education were called Celia and Harol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DSC05822 (Small)"/>
          <p:cNvPicPr/>
          <p:nvPr/>
        </p:nvPicPr>
        <p:blipFill>
          <a:blip r:embed="rId1"/>
          <a:srcRect l="19484" t="14823" r="39751" b="19430"/>
          <a:stretch/>
        </p:blipFill>
        <p:spPr>
          <a:xfrm>
            <a:off x="5580000" y="1557360"/>
            <a:ext cx="2446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at we did on the first d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is is the life education caravan on the first day. Inside the caravan is where we do life edu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DSC05839 (Small)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These are the people from our class who became doctor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DSC05845 (Small)"/>
          <p:cNvPicPr/>
          <p:nvPr/>
        </p:nvPicPr>
        <p:blipFill>
          <a:blip r:embed="rId1"/>
          <a:stretch/>
        </p:blipFill>
        <p:spPr>
          <a:xfrm>
            <a:off x="4859280" y="3860640"/>
            <a:ext cx="3848040" cy="273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SC05846 (Small)"/>
          <p:cNvPicPr/>
          <p:nvPr/>
        </p:nvPicPr>
        <p:blipFill>
          <a:blip r:embed="rId2"/>
          <a:stretch/>
        </p:blipFill>
        <p:spPr>
          <a:xfrm>
            <a:off x="468360" y="4076640"/>
            <a:ext cx="439092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5850 (Small)"/>
          <p:cNvPicPr/>
          <p:nvPr/>
        </p:nvPicPr>
        <p:blipFill>
          <a:blip r:embed="rId3"/>
          <a:stretch/>
        </p:blipFill>
        <p:spPr>
          <a:xfrm>
            <a:off x="4427640" y="1528920"/>
            <a:ext cx="419580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DSC05851 (Small)"/>
          <p:cNvPicPr/>
          <p:nvPr/>
        </p:nvPicPr>
        <p:blipFill>
          <a:blip r:embed="rId4"/>
          <a:stretch/>
        </p:blipFill>
        <p:spPr>
          <a:xfrm>
            <a:off x="539640" y="1484280"/>
            <a:ext cx="38880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12" descr="DSC05860 (Small)"/>
          <p:cNvPicPr/>
          <p:nvPr/>
        </p:nvPicPr>
        <p:blipFill>
          <a:blip r:embed="rId1"/>
          <a:stretch/>
        </p:blipFill>
        <p:spPr>
          <a:xfrm>
            <a:off x="1042920" y="1268280"/>
            <a:ext cx="7058160" cy="4942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DSC05861 (Small)"/>
          <p:cNvPicPr/>
          <p:nvPr/>
        </p:nvPicPr>
        <p:blipFill>
          <a:blip r:embed="rId2"/>
          <a:srcRect l="66675" t="38573" r="20215" b="55359"/>
          <a:stretch/>
        </p:blipFill>
        <p:spPr>
          <a:xfrm>
            <a:off x="2484360" y="2781360"/>
            <a:ext cx="48974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5" descr="MC900286930[1]"/>
          <p:cNvPicPr/>
          <p:nvPr/>
        </p:nvPicPr>
        <p:blipFill>
          <a:blip r:embed="rId1"/>
          <a:stretch/>
        </p:blipFill>
        <p:spPr>
          <a:xfrm>
            <a:off x="1332000" y="2492280"/>
            <a:ext cx="6107040" cy="2165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MC900383230[1]"/>
          <p:cNvPicPr/>
          <p:nvPr/>
        </p:nvPicPr>
        <p:blipFill>
          <a:blip r:embed="rId2"/>
          <a:stretch/>
        </p:blipFill>
        <p:spPr>
          <a:xfrm>
            <a:off x="6804000" y="1125360"/>
            <a:ext cx="1820880" cy="16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MC900105224[1]"/>
          <p:cNvPicPr/>
          <p:nvPr/>
        </p:nvPicPr>
        <p:blipFill>
          <a:blip r:embed="rId3"/>
          <a:stretch/>
        </p:blipFill>
        <p:spPr>
          <a:xfrm>
            <a:off x="324000" y="1052640"/>
            <a:ext cx="1830240" cy="169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MM900223751[1]"/>
          <p:cNvPicPr/>
          <p:nvPr/>
        </p:nvPicPr>
        <p:blipFill>
          <a:blip r:embed="rId4"/>
          <a:stretch/>
        </p:blipFill>
        <p:spPr>
          <a:xfrm>
            <a:off x="2627280" y="5129280"/>
            <a:ext cx="2952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9:39:30Z</dcterms:created>
  <dc:creator>waka</dc:creator>
  <dc:description/>
  <dc:language>en-US</dc:language>
  <cp:lastModifiedBy>Morgan</cp:lastModifiedBy>
  <dcterms:modified xsi:type="dcterms:W3CDTF">2014-03-05T23:35:24Z</dcterms:modified>
  <cp:revision>4</cp:revision>
  <dc:subject/>
  <dc:title>Life education by Ben and Dom</dc:title>
</cp:coreProperties>
</file>